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BA0F8-F198-450E-AF5B-8DF18C6E7B4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ВАВИЛОНСКИЙ ЦАРЬ ХАММУРАПИ И ЕГО ЗАК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2865E-8839-4134-A76D-E6138988E5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Calibri"/>
              </a:rPr>
              <a:t>Хаммурапи получил власть</a:t>
            </a:r>
            <a:br>
              <a:rPr sz="2000"/>
            </a:br>
            <a:r>
              <a:rPr b="1" lang="ru-RU" sz="2000" spc="-1" strike="noStrike">
                <a:solidFill>
                  <a:srgbClr val="990000"/>
                </a:solidFill>
                <a:latin typeface="Calibri"/>
              </a:rPr>
              <a:t> от бог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663300"/>
                </a:solidFill>
                <a:uFillTx/>
                <a:latin typeface="Calibri"/>
              </a:rPr>
              <a:t>Заслуги Хаммурап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Увеличил территорию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Установил единые законы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CFDA0-2B21-4015-8D38-719CEA7925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Calibri"/>
              </a:rPr>
              <a:t>ЗАКОНЫ –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правила, обязательные для всех жителей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4E82D-DA17-4ED0-9F02-6DD9C14E1A3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Calibri"/>
              </a:rPr>
              <a:t>КОГО ЗАЩИЩАЛИ ЗАКОНЫ ХАММУРАП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Прочитайте на стр 68 текст законов, и предположите, какому наказанию подвергся бедня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D589F-81E2-40F4-BA99-358CBC6A05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Calibri"/>
              </a:rPr>
              <a:t>КОГО ЗАЩИЩАЛИ ЗАКОНЫ ХАММУРАП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Какое наказание ждёт купца, согласно закону, если его поймаю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Почему за кражу  осла и раба наказывают одинаков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27946-4C75-42C6-97EB-2DA7659D4E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Calibri"/>
              </a:rPr>
              <a:t>ЗАКОНЫ </a:t>
            </a:r>
            <a:br>
              <a:rPr sz="1800"/>
            </a:br>
            <a:r>
              <a:rPr b="1" lang="ru-RU" sz="1800" spc="-1" strike="noStrike">
                <a:solidFill>
                  <a:srgbClr val="663300"/>
                </a:solidFill>
                <a:latin typeface="Calibri"/>
              </a:rPr>
              <a:t>О СВОБОДНЫХ И РАБ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Стр 69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Чем раб отличался от свободного челове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C8B61-1499-43CC-A328-7B7374C0FC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Наказ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штра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Смертная каз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принцип тали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(око за око, зуб – за зуб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09126-2B16-4306-AB1F-B45FD2E543A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Calibri"/>
              </a:rPr>
              <a:t>ЗАКОНЫ О БОГАЧАХ И БЕДНЯК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Прочитайте текст п.5 стр 69-7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бедняки становились рабами-должника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чём разница в положении раба-чужеземца и раба-должник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61961-D4F0-48E2-81B1-F699E9C5596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«чтобы сильный не обижал слабого,  чтобы сироте и вдове оказывалась справедливость…. Чтобы притеснённому оказывалась справедливость, я начертал драгоценные слова на  моей стеле и поставил перед моим изображением царя справедлив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Будущим временем, навеки! Царь, который будет в стране, да соблюдает справедливые слова, написанные мною на моей стеле, да не изменит он судебных решений страны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пусть истребит в стране своей беззаконных и злых, пусть даст благоденствие своим людям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44721-B479-401D-B260-CD0FEF8B9FF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Законы Хаммурапи – правила, обязательные для всех жителей стра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наличие писаных законов – важнейший признак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законы Хаммурапи регулируют все стороны общественной жизни, защищают права собственности, устанавливают различие между рабами-чужеземцами и рабами-должни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виновность обвиняемого устанавливалась через «суд божий», действовал принцип тали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67BAD-A7A1-4768-BD22-3081D7D382C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С какой страной вы познакомилис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Где она расположен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Почему так называетс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Назовите древнейшие города Двуречь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Какой город стал главным в Двуречь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BCF34-7C4E-4120-8940-B7BA46406F5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Город Вавил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ABCDC-2436-47A8-9D47-8203A4DA001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Вавилон – торговый гор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продавали купцы, приплывшие в Вавилон с севе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покупали в Вавилон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ACE03-5F76-4F2E-9E29-F3E211F97FB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Город Вавил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9DB0B-32FA-4FFE-9C40-D2F2E3263DC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Ворота богини Ишт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875A5-3BCC-4EB0-B57D-B50E3D4C36E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Висячие сады Семирами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 из 7 чудес св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ды – поднимавшиеся уступы 12  терра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дали казалось, что сады висят в воздух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4C189-1212-49C4-AD4C-FB3561E9115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ВАВИЛОНСКАЯ БАШ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одно из чудес св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многоярусное пирамидальное з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A440B-E77B-4418-855E-0A633ED306D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F40D-EC87-4FF0-9821-4EB623E83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6912-8505-49C8-A9B1-58377EEBE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E67D-BFF9-482B-BF3D-65F2A348E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DEB4-999E-4E8A-83AE-53B679346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AD17-A5E1-46E2-B9E1-7471C2D68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3F1F-6D69-49A4-8161-705A37978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4428-16E8-412B-90B7-9FD64003C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4AD4-CE19-4D01-BF5B-4F8414AC1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F552-5CC6-4D7C-BA55-4A6467C0D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07A6-81AD-4F39-A31A-984D5922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AEEB-C982-4904-8BB4-F7884B10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4E1A-2220-4E8D-BD16-A51A7B81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29419-21C8-4C1B-96E0-2987A8231E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ВАВИЛОНСКИЙ ЦАРЬ ХАММУРАПИ И ЕГО ЗАКОН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Хаммурапи "/>
          <p:cNvPicPr/>
          <p:nvPr/>
        </p:nvPicPr>
        <p:blipFill>
          <a:blip r:embed="rId1"/>
          <a:stretch/>
        </p:blipFill>
        <p:spPr>
          <a:xfrm>
            <a:off x="250920" y="2708280"/>
            <a:ext cx="2695320" cy="37908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3143160" y="364320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792-1750 гг до н. э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5283000" y="5500800"/>
            <a:ext cx="358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Куляшова И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истор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-СОШ №3 г. Красноуфим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Хаммурапи получил власть</a:t>
            </a:r>
            <a:br>
              <a:rPr sz="4000"/>
            </a:b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 от бог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788000" y="1600200"/>
            <a:ext cx="403200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3300"/>
                </a:solidFill>
                <a:uFillTx/>
                <a:latin typeface="Arial"/>
              </a:rPr>
              <a:t>Заслуги Хаммурап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Увеличил территорию государ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Установил единые законы государ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стелла с законами "/>
          <p:cNvPicPr/>
          <p:nvPr/>
        </p:nvPicPr>
        <p:blipFill>
          <a:blip r:embed="rId1"/>
          <a:stretch/>
        </p:blipFill>
        <p:spPr>
          <a:xfrm>
            <a:off x="0" y="1143000"/>
            <a:ext cx="4467240" cy="5715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4859280" y="3881520"/>
            <a:ext cx="39607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Прочитайте текст на стр 67-68, ответьте на вопро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Что написано на стелл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ЗАКОНЫ – 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правила, обязательные для всех жителей стр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законы "/>
          <p:cNvPicPr/>
          <p:nvPr/>
        </p:nvPicPr>
        <p:blipFill>
          <a:blip r:embed="rId1"/>
          <a:stretch/>
        </p:blipFill>
        <p:spPr>
          <a:xfrm>
            <a:off x="250920" y="1484280"/>
            <a:ext cx="4464000" cy="5181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стелла "/>
          <p:cNvPicPr/>
          <p:nvPr/>
        </p:nvPicPr>
        <p:blipFill>
          <a:blip r:embed="rId2"/>
          <a:stretch/>
        </p:blipFill>
        <p:spPr>
          <a:xfrm>
            <a:off x="6137280" y="1484280"/>
            <a:ext cx="2676600" cy="506880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КОГО ЗАЩИЩАЛИ ЗАКОНЫ ХАММУРАП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859280" y="1600200"/>
            <a:ext cx="382752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Прочитайте на стр 68 текст законов, и предположите, какому наказанию подвергся бедня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законы Хпмураппи "/>
          <p:cNvPicPr/>
          <p:nvPr/>
        </p:nvPicPr>
        <p:blipFill>
          <a:blip r:embed="rId1"/>
          <a:stretch/>
        </p:blipFill>
        <p:spPr>
          <a:xfrm>
            <a:off x="210960" y="1557360"/>
            <a:ext cx="4426200" cy="51116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4859280" y="4292640"/>
            <a:ext cx="390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«Если человек украл имущест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храма, он должен быть казнён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КОГО ЗАЩИЩАЛИ ЗАКОНЫ ХАММУРАП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867280" y="1600200"/>
            <a:ext cx="28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Какое наказание ждёт купца, согласно закону, если его поймаю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Почему за кражу  осла и раба наказывают одинаков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Суд Хамураппи "/>
          <p:cNvPicPr/>
          <p:nvPr/>
        </p:nvPicPr>
        <p:blipFill>
          <a:blip r:embed="rId1"/>
          <a:stretch/>
        </p:blipFill>
        <p:spPr>
          <a:xfrm>
            <a:off x="250920" y="1789200"/>
            <a:ext cx="5400720" cy="438300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ЗАКОНЫ </a:t>
            </a:r>
            <a:br>
              <a:rPr sz="4000"/>
            </a:b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О СВОБОДНЫХ И РАБ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814716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Стр 69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Чем раб отличался от свободного челове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клеймо раба "/>
          <p:cNvPicPr/>
          <p:nvPr/>
        </p:nvPicPr>
        <p:blipFill>
          <a:blip r:embed="rId1"/>
          <a:stretch/>
        </p:blipFill>
        <p:spPr>
          <a:xfrm>
            <a:off x="1042920" y="3645000"/>
            <a:ext cx="7234200" cy="291456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Наказ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716000" y="1600200"/>
            <a:ext cx="397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штра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Смертная ка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принцип тали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(око за око, зуб – за зу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текст законов Хаммураппи "/>
          <p:cNvPicPr/>
          <p:nvPr/>
        </p:nvPicPr>
        <p:blipFill>
          <a:blip r:embed="rId1"/>
          <a:stretch/>
        </p:blipFill>
        <p:spPr>
          <a:xfrm>
            <a:off x="539640" y="1484280"/>
            <a:ext cx="3821400" cy="482436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ЗАКОНЫ О БОГАЧАХ И БЕДНЯК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Прочитайте текст п.5 стр 69-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бедняки становились рабами-должникам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чём разница в положении раба-чужеземца и раба-должник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Шумеры знать и простые люди "/>
          <p:cNvPicPr/>
          <p:nvPr/>
        </p:nvPicPr>
        <p:blipFill>
          <a:blip r:embed="rId1"/>
          <a:stretch/>
        </p:blipFill>
        <p:spPr>
          <a:xfrm>
            <a:off x="1258920" y="3878280"/>
            <a:ext cx="7200720" cy="297972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564000" y="-360"/>
            <a:ext cx="55800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«чтобы сильный не обижал слабого,  чтобы сироте и вдове оказывалась справедливость…. Чтобы притеснённому оказывалась справедливость, я начертал драгоценные слова на  моей стеле и поставил перед моим изображением царя справедлив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Будущим временем, навеки! Царь, который будет в стране, да соблюдает справедливые слова, написанные мною на моей стеле, да не изменит он судебных решений страны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пусть истребит в стране своей беззаконных и злых, пусть даст благоденствие своим людя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стелла с законами "/>
          <p:cNvPicPr/>
          <p:nvPr/>
        </p:nvPicPr>
        <p:blipFill>
          <a:blip r:embed="rId1"/>
          <a:stretch/>
        </p:blipFill>
        <p:spPr>
          <a:xfrm>
            <a:off x="179280" y="333360"/>
            <a:ext cx="3602160" cy="619128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287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132000" y="764640"/>
            <a:ext cx="6012000" cy="565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Законы Хаммурапи – правила, обязательные для всех жителей стран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наличие писаных законов – важнейший признак государ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законы Хаммурапи регулируют все стороны общественной жизни, защищают права собственности, устанавливают различие между рабами-чужеземцами и рабами-должни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виновность обвиняемого устанавливалась через «суд божий», действовал принцип тали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Хаммураппи "/>
          <p:cNvPicPr/>
          <p:nvPr/>
        </p:nvPicPr>
        <p:blipFill>
          <a:blip r:embed="rId1"/>
          <a:stretch/>
        </p:blipFill>
        <p:spPr>
          <a:xfrm>
            <a:off x="179280" y="1844640"/>
            <a:ext cx="2978280" cy="43308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ВОПРО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С какой страной вы познакомилис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Где она расположен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Почему так называет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Назовите древнейшие города Двуречь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Какой город стал главным в Двуречь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карта Двуречья 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Город Вавил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Вавилон 3 "/>
          <p:cNvPicPr/>
          <p:nvPr/>
        </p:nvPicPr>
        <p:blipFill>
          <a:blip r:embed="rId1"/>
          <a:stretch/>
        </p:blipFill>
        <p:spPr>
          <a:xfrm>
            <a:off x="0" y="1197000"/>
            <a:ext cx="6588000" cy="3929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стены Вавилона раскопки "/>
          <p:cNvPicPr/>
          <p:nvPr/>
        </p:nvPicPr>
        <p:blipFill>
          <a:blip r:embed="rId2"/>
          <a:stretch/>
        </p:blipFill>
        <p:spPr>
          <a:xfrm>
            <a:off x="4427640" y="3591000"/>
            <a:ext cx="4716360" cy="326700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3300"/>
                </a:solidFill>
                <a:latin typeface="Arial"/>
              </a:rPr>
              <a:t>Вавилон – торговый город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00720" y="1052640"/>
            <a:ext cx="4186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продавали купцы, приплывшие в Вавилон с севе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покупали в Вавило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Вавилон 4 jpg"/>
          <p:cNvPicPr/>
          <p:nvPr/>
        </p:nvPicPr>
        <p:blipFill>
          <a:blip r:embed="rId1"/>
          <a:stretch/>
        </p:blipFill>
        <p:spPr>
          <a:xfrm>
            <a:off x="179280" y="1125360"/>
            <a:ext cx="3971880" cy="5542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финиковые пальмы "/>
          <p:cNvPicPr/>
          <p:nvPr/>
        </p:nvPicPr>
        <p:blipFill>
          <a:blip r:embed="rId2"/>
          <a:stretch/>
        </p:blipFill>
        <p:spPr>
          <a:xfrm>
            <a:off x="4788000" y="3716280"/>
            <a:ext cx="4000320" cy="269568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Город Вавил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царский дворец в Вавилоне jpg"/>
          <p:cNvPicPr/>
          <p:nvPr/>
        </p:nvPicPr>
        <p:blipFill>
          <a:blip r:embed="rId1"/>
          <a:stretch/>
        </p:blipFill>
        <p:spPr>
          <a:xfrm>
            <a:off x="684360" y="1389240"/>
            <a:ext cx="8096040" cy="546876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Ворота богини Ишта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ворота Иштар реконструкция "/>
          <p:cNvPicPr/>
          <p:nvPr/>
        </p:nvPicPr>
        <p:blipFill>
          <a:blip r:embed="rId1"/>
          <a:stretch/>
        </p:blipFill>
        <p:spPr>
          <a:xfrm>
            <a:off x="395280" y="1268280"/>
            <a:ext cx="4670280" cy="5300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ворота  Иштар jpg"/>
          <p:cNvPicPr/>
          <p:nvPr/>
        </p:nvPicPr>
        <p:blipFill>
          <a:blip r:embed="rId2"/>
          <a:stretch/>
        </p:blipFill>
        <p:spPr>
          <a:xfrm>
            <a:off x="5003640" y="2637000"/>
            <a:ext cx="3843360" cy="401616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Висячие сады Семирами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07552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о из 7 чудес св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ды – поднимавшиеся уступы 12  терр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дали казалось, что сады висят в воздух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Висячие сады jpg"/>
          <p:cNvPicPr/>
          <p:nvPr/>
        </p:nvPicPr>
        <p:blipFill>
          <a:blip r:embed="rId1"/>
          <a:stretch/>
        </p:blipFill>
        <p:spPr>
          <a:xfrm>
            <a:off x="1258920" y="2700360"/>
            <a:ext cx="6421320" cy="393048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ВАВИЛОНСКАЯ БАШ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12000" y="1600200"/>
            <a:ext cx="267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одно из чудес св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многоярусное пирамидальное зд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Вавилонская башня Брейгель jpg"/>
          <p:cNvPicPr/>
          <p:nvPr/>
        </p:nvPicPr>
        <p:blipFill>
          <a:blip r:embed="rId1"/>
          <a:stretch/>
        </p:blipFill>
        <p:spPr>
          <a:xfrm>
            <a:off x="324000" y="1628640"/>
            <a:ext cx="5381640" cy="440064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11:43:19Z</dcterms:created>
  <dc:creator>Администратор</dc:creator>
  <dc:description/>
  <dc:language>en-US</dc:language>
  <cp:lastModifiedBy>LEGION</cp:lastModifiedBy>
  <dcterms:modified xsi:type="dcterms:W3CDTF">2015-01-15T12:26:26Z</dcterms:modified>
  <cp:revision>10</cp:revision>
  <dc:subject/>
  <dc:title>ВАВИЛОНСКИЙ ЦАРЬ ХАММУРАПИ И ЕГО ЗАКОНЫ</dc:title>
</cp:coreProperties>
</file>